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wmf" ContentType="image/x-wmf"/>
  <Override PartName="/ppt/media/image3.wmf" ContentType="image/x-wmf"/>
  <Override PartName="/ppt/media/image4.jpeg" ContentType="image/jpeg"/>
  <Override PartName="/ppt/media/image6.jpeg" ContentType="image/jpeg"/>
  <Override PartName="/ppt/media/image7.wmf" ContentType="image/x-wmf"/>
  <Override PartName="/ppt/media/image8.png" ContentType="image/png"/>
  <Override PartName="/ppt/media/image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3524-0535-4AE3-B312-CEE6BA04D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FF53-A950-4EB5-8106-E8C064B54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4417-05F7-4F71-9F84-4A216027D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BA10-19CA-4013-9CF5-457812768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D3E3E-C059-4B2B-A5E8-F00DD67BA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43501-BA18-44E8-9C56-4265FA963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793CB-2CAC-4B43-AD87-6556CE64C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0F1B6-532E-4CF9-BF14-64BD95F5D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08193-649B-40DF-A489-6A6A960E1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00ECE-2111-4CDE-9E12-4F95EF221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8DFCA-9708-4B2E-865E-CE99159D9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39A5-11E0-404C-8241-866505375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4972F-ED5D-423D-B85B-04C2F5902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7185B-16DE-4429-8651-354437EAB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43A35-FCA5-4BD2-9038-54304D669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16106-D9F1-44DA-88BD-8062C743A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A950A-9B6F-480C-AF6E-4B52E612B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5D55-9C23-4860-A3E1-F60BA778B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EBB7-3749-4AE5-AA6D-DD9C5B5C7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751A-EFA1-4CDB-AB27-343BE5894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79BE-2655-4193-B9AA-33093D3EA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4820-35A3-4D2A-BC54-92A697B0A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E084-FA6B-4087-836F-E11240708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5441-760E-4611-9D1D-7A097063B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2895480" y="6477120"/>
            <a:ext cx="32767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© 2000 by Monica Yuskaiti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E5FB9-C27E-4C7C-A3D2-28E6F832D2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5C1A1-0759-45CA-8017-B9E81EDD81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7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7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7.wmf"/><Relationship Id="rId2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9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9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9.wmf"/><Relationship Id="rId2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cgl.microsoft.com/" TargetMode="External"/><Relationship Id="rId2" Type="http://schemas.openxmlformats.org/officeDocument/2006/relationships/hyperlink" Target="http://cgl.microsoft.com/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Arial"/>
              </a:rPr>
              <a:t>Percent I</a:t>
            </a:r>
            <a:endParaRPr b="0" lang="en-US" sz="5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447920" y="3124080"/>
            <a:ext cx="6400800" cy="198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y Monica Yuskaiti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886200" y="2209680"/>
            <a:ext cx="1463760" cy="1463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5410080" y="3200400"/>
            <a:ext cx="3382920" cy="3382920"/>
          </a:xfrm>
          <a:prstGeom prst="rect">
            <a:avLst/>
          </a:prstGeom>
          <a:ln w="0">
            <a:noFill/>
          </a:ln>
        </p:spPr>
      </p:pic>
      <p:grpSp>
        <p:nvGrpSpPr>
          <p:cNvPr id="159" name=""/>
          <p:cNvGrpSpPr/>
          <p:nvPr/>
        </p:nvGrpSpPr>
        <p:grpSpPr>
          <a:xfrm>
            <a:off x="609480" y="3200400"/>
            <a:ext cx="3505320" cy="3429000"/>
            <a:chOff x="609480" y="3200400"/>
            <a:chExt cx="3505320" cy="3429000"/>
          </a:xfrm>
        </p:grpSpPr>
        <p:pic>
          <p:nvPicPr>
            <p:cNvPr id="160" name="" descr=""/>
            <p:cNvPicPr/>
            <p:nvPr/>
          </p:nvPicPr>
          <p:blipFill>
            <a:blip r:embed="rId2"/>
            <a:stretch/>
          </p:blipFill>
          <p:spPr>
            <a:xfrm>
              <a:off x="2666880" y="5181480"/>
              <a:ext cx="1447920" cy="144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" descr=""/>
            <p:cNvPicPr/>
            <p:nvPr/>
          </p:nvPicPr>
          <p:blipFill>
            <a:blip r:embed="rId3"/>
            <a:stretch/>
          </p:blipFill>
          <p:spPr>
            <a:xfrm>
              <a:off x="2666880" y="3276720"/>
              <a:ext cx="1447920" cy="144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" descr=""/>
            <p:cNvPicPr/>
            <p:nvPr/>
          </p:nvPicPr>
          <p:blipFill>
            <a:blip r:embed="rId4"/>
            <a:stretch/>
          </p:blipFill>
          <p:spPr>
            <a:xfrm>
              <a:off x="609480" y="5181480"/>
              <a:ext cx="1447920" cy="144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" descr=""/>
            <p:cNvPicPr/>
            <p:nvPr/>
          </p:nvPicPr>
          <p:blipFill>
            <a:blip r:embed="rId5"/>
            <a:stretch/>
          </p:blipFill>
          <p:spPr>
            <a:xfrm>
              <a:off x="609480" y="3200400"/>
              <a:ext cx="1447920" cy="1447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Arial"/>
              </a:rPr>
              <a:t>Comparing Money &amp; Percents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0010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$ .25 is ¼ of a dollar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25% also means ¼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345560" y="3886200"/>
            <a:ext cx="81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010280" y="3276720"/>
            <a:ext cx="1524240" cy="9903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$1.0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228600" y="4114800"/>
            <a:ext cx="3048120" cy="2590920"/>
            <a:chOff x="228600" y="4114800"/>
            <a:chExt cx="3048120" cy="2590920"/>
          </a:xfrm>
        </p:grpSpPr>
        <p:sp>
          <p:nvSpPr>
            <p:cNvPr id="169" name=""/>
            <p:cNvSpPr/>
            <p:nvPr/>
          </p:nvSpPr>
          <p:spPr>
            <a:xfrm>
              <a:off x="228600" y="4114800"/>
              <a:ext cx="838080" cy="8384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25</a:t>
              </a: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¢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04920" y="5867640"/>
              <a:ext cx="838080" cy="83808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25</a:t>
              </a: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¢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38280" y="4114800"/>
              <a:ext cx="838440" cy="8384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25</a:t>
              </a: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¢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62320" y="5867640"/>
              <a:ext cx="838080" cy="83808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25</a:t>
              </a: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¢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3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3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3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3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Arial"/>
              </a:rPr>
              <a:t>Comparing Money &amp; Percents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001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marL="188640" indent="-188640">
              <a:lnSpc>
                <a:spcPct val="80000"/>
              </a:lnSpc>
              <a:spcBef>
                <a:spcPts val="11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25% means ¼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188640" indent="-188640">
              <a:lnSpc>
                <a:spcPct val="80000"/>
              </a:lnSpc>
              <a:spcBef>
                <a:spcPts val="11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25% of 8 lemons is 2 lem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18864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250320" y="3581280"/>
            <a:ext cx="867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57200" y="3657600"/>
            <a:ext cx="3146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25% of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3886200" y="3048120"/>
            <a:ext cx="2173320" cy="2935080"/>
            <a:chOff x="3886200" y="3048120"/>
            <a:chExt cx="2173320" cy="2935080"/>
          </a:xfrm>
        </p:grpSpPr>
        <p:graphicFrame>
          <p:nvGraphicFramePr>
            <p:cNvPr id="178" name=""/>
            <p:cNvGraphicFramePr/>
            <p:nvPr/>
          </p:nvGraphicFramePr>
          <p:xfrm>
            <a:off x="3886200" y="3048120"/>
            <a:ext cx="954000" cy="649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7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886200" y="3048120"/>
                      <a:ext cx="954000" cy="649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0" name=""/>
            <p:cNvGraphicFramePr/>
            <p:nvPr/>
          </p:nvGraphicFramePr>
          <p:xfrm>
            <a:off x="3886200" y="3809880"/>
            <a:ext cx="954000" cy="6494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8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886200" y="3809880"/>
                      <a:ext cx="954000" cy="649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2" name=""/>
            <p:cNvGraphicFramePr/>
            <p:nvPr/>
          </p:nvGraphicFramePr>
          <p:xfrm>
            <a:off x="3886200" y="4572000"/>
            <a:ext cx="954000" cy="6494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8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886200" y="4572000"/>
                      <a:ext cx="954000" cy="649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4" name=""/>
            <p:cNvGraphicFramePr/>
            <p:nvPr/>
          </p:nvGraphicFramePr>
          <p:xfrm>
            <a:off x="3886200" y="5334120"/>
            <a:ext cx="954000" cy="6490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8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886200" y="5334120"/>
                      <a:ext cx="954000" cy="649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6" name=""/>
            <p:cNvGraphicFramePr/>
            <p:nvPr/>
          </p:nvGraphicFramePr>
          <p:xfrm>
            <a:off x="5105520" y="3048120"/>
            <a:ext cx="954000" cy="6490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8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105520" y="3048120"/>
                      <a:ext cx="954000" cy="649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8" name=""/>
            <p:cNvGraphicFramePr/>
            <p:nvPr/>
          </p:nvGraphicFramePr>
          <p:xfrm>
            <a:off x="5105520" y="3809880"/>
            <a:ext cx="954000" cy="6494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8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5105520" y="3809880"/>
                      <a:ext cx="954000" cy="649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90" name=""/>
            <p:cNvGraphicFramePr/>
            <p:nvPr/>
          </p:nvGraphicFramePr>
          <p:xfrm>
            <a:off x="5105520" y="4572000"/>
            <a:ext cx="954000" cy="64944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9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105520" y="4572000"/>
                      <a:ext cx="954000" cy="649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92" name=""/>
            <p:cNvGraphicFramePr/>
            <p:nvPr/>
          </p:nvGraphicFramePr>
          <p:xfrm>
            <a:off x="5105520" y="5334120"/>
            <a:ext cx="954000" cy="6490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9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5105520" y="5334120"/>
                      <a:ext cx="954000" cy="649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94" name=""/>
          <p:cNvGrpSpPr/>
          <p:nvPr/>
        </p:nvGrpSpPr>
        <p:grpSpPr>
          <a:xfrm>
            <a:off x="7238880" y="3733920"/>
            <a:ext cx="954360" cy="1411200"/>
            <a:chOff x="7238880" y="3733920"/>
            <a:chExt cx="954360" cy="1411200"/>
          </a:xfrm>
        </p:grpSpPr>
        <p:graphicFrame>
          <p:nvGraphicFramePr>
            <p:cNvPr id="195" name=""/>
            <p:cNvGraphicFramePr/>
            <p:nvPr/>
          </p:nvGraphicFramePr>
          <p:xfrm>
            <a:off x="7238880" y="3733920"/>
            <a:ext cx="954360" cy="64908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96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7238880" y="3733920"/>
                      <a:ext cx="954360" cy="649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97" name=""/>
            <p:cNvGraphicFramePr/>
            <p:nvPr/>
          </p:nvGraphicFramePr>
          <p:xfrm>
            <a:off x="7238880" y="4495680"/>
            <a:ext cx="954360" cy="64944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198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238880" y="4495680"/>
                      <a:ext cx="954360" cy="649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3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3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3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3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Arial"/>
              </a:rPr>
              <a:t>Comparing Money &amp; Percents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04920" y="2971800"/>
            <a:ext cx="1981080" cy="24382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25%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514600" y="2971800"/>
            <a:ext cx="1981080" cy="24382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.25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4724280" y="2971800"/>
            <a:ext cx="1981440" cy="2476440"/>
            <a:chOff x="4724280" y="2971800"/>
            <a:chExt cx="1981440" cy="2476440"/>
          </a:xfrm>
        </p:grpSpPr>
        <p:sp>
          <p:nvSpPr>
            <p:cNvPr id="203" name=""/>
            <p:cNvSpPr/>
            <p:nvPr/>
          </p:nvSpPr>
          <p:spPr>
            <a:xfrm>
              <a:off x="4724280" y="2971800"/>
              <a:ext cx="1981440" cy="24764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000000"/>
                  </a:solidFill>
                  <a:latin typeface="Times New Roman"/>
                </a:rPr>
                <a:t>25</a:t>
              </a:r>
              <a:endParaRPr b="0" lang="en-US" sz="6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000000"/>
                  </a:solidFill>
                  <a:latin typeface="Times New Roman"/>
                </a:rPr>
                <a:t>100</a:t>
              </a:r>
              <a:endParaRPr b="0" lang="en-US" sz="6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105520" y="4191120"/>
              <a:ext cx="12189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6934320" y="2971800"/>
            <a:ext cx="1981080" cy="3088800"/>
            <a:chOff x="6934320" y="2971800"/>
            <a:chExt cx="1981080" cy="3088800"/>
          </a:xfrm>
        </p:grpSpPr>
        <p:sp>
          <p:nvSpPr>
            <p:cNvPr id="206" name=""/>
            <p:cNvSpPr/>
            <p:nvPr/>
          </p:nvSpPr>
          <p:spPr>
            <a:xfrm>
              <a:off x="6934320" y="2971800"/>
              <a:ext cx="1981080" cy="24382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545600" y="3352680"/>
              <a:ext cx="599760" cy="270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6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6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391520" y="4191120"/>
              <a:ext cx="9144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2057400" y="3809880"/>
            <a:ext cx="762120" cy="7621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191120" y="3733920"/>
            <a:ext cx="761760" cy="7617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400800" y="3733920"/>
            <a:ext cx="762120" cy="7617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590920" y="2209680"/>
            <a:ext cx="1904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ecima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25720" y="2209680"/>
            <a:ext cx="1875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rac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705720" y="1828800"/>
            <a:ext cx="2438280" cy="16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rac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implifie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80880" y="2209680"/>
            <a:ext cx="1708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ercen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1600200" y="2362320"/>
            <a:ext cx="3048120" cy="533160"/>
          </a:xfrm>
          <a:prstGeom prst="rect">
            <a:avLst/>
          </a:prstGeom>
          <a:solidFill>
            <a:srgbClr val="99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600200" y="1371600"/>
            <a:ext cx="6095880" cy="990720"/>
          </a:xfrm>
          <a:prstGeom prst="rect">
            <a:avLst/>
          </a:prstGeom>
          <a:solidFill>
            <a:srgbClr val="99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Arial"/>
              </a:rPr>
              <a:t>25 % Means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60948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25 parts out of 100 or 25 hundredths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1600200" y="1371600"/>
          <a:ext cx="6095880" cy="5175360"/>
        </p:xfrm>
        <a:graphic>
          <a:graphicData uri="http://schemas.openxmlformats.org/drawingml/2006/table">
            <a:tbl>
              <a:tblPr/>
              <a:tblGrid>
                <a:gridCol w="609480"/>
                <a:gridCol w="609840"/>
                <a:gridCol w="609480"/>
                <a:gridCol w="609480"/>
                <a:gridCol w="609840"/>
                <a:gridCol w="609480"/>
                <a:gridCol w="609480"/>
                <a:gridCol w="609840"/>
                <a:gridCol w="609480"/>
                <a:gridCol w="6094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3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3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5410080" y="2895480"/>
            <a:ext cx="3733920" cy="3733920"/>
          </a:xfrm>
          <a:prstGeom prst="rect">
            <a:avLst/>
          </a:prstGeom>
          <a:ln w="0">
            <a:noFill/>
          </a:ln>
        </p:spPr>
      </p:pic>
      <p:grpSp>
        <p:nvGrpSpPr>
          <p:cNvPr id="222" name=""/>
          <p:cNvGrpSpPr/>
          <p:nvPr/>
        </p:nvGrpSpPr>
        <p:grpSpPr>
          <a:xfrm>
            <a:off x="304920" y="2743200"/>
            <a:ext cx="3348000" cy="3819600"/>
            <a:chOff x="304920" y="2743200"/>
            <a:chExt cx="3348000" cy="3819600"/>
          </a:xfrm>
        </p:grpSpPr>
        <p:grpSp>
          <p:nvGrpSpPr>
            <p:cNvPr id="223" name=""/>
            <p:cNvGrpSpPr/>
            <p:nvPr/>
          </p:nvGrpSpPr>
          <p:grpSpPr>
            <a:xfrm>
              <a:off x="304920" y="2743200"/>
              <a:ext cx="833400" cy="3819600"/>
              <a:chOff x="304920" y="2743200"/>
              <a:chExt cx="833400" cy="3819600"/>
            </a:xfrm>
          </p:grpSpPr>
          <p:pic>
            <p:nvPicPr>
              <p:cNvPr id="22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04920" y="2743200"/>
                <a:ext cx="833400" cy="847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5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04920" y="3733920"/>
                <a:ext cx="833400" cy="84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6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04920" y="4724280"/>
                <a:ext cx="833400" cy="847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7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304920" y="5715000"/>
                <a:ext cx="833400" cy="8478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28" name=""/>
            <p:cNvGrpSpPr/>
            <p:nvPr/>
          </p:nvGrpSpPr>
          <p:grpSpPr>
            <a:xfrm>
              <a:off x="1600200" y="2743200"/>
              <a:ext cx="833400" cy="1838160"/>
              <a:chOff x="1600200" y="2743200"/>
              <a:chExt cx="833400" cy="1838160"/>
            </a:xfrm>
          </p:grpSpPr>
          <p:pic>
            <p:nvPicPr>
              <p:cNvPr id="22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1600200" y="2743200"/>
                <a:ext cx="833400" cy="847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1600200" y="3733920"/>
                <a:ext cx="833400" cy="8474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31" name="" descr=""/>
            <p:cNvPicPr/>
            <p:nvPr/>
          </p:nvPicPr>
          <p:blipFill>
            <a:blip r:embed="rId8"/>
            <a:stretch/>
          </p:blipFill>
          <p:spPr>
            <a:xfrm>
              <a:off x="1600200" y="4724280"/>
              <a:ext cx="833400" cy="84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" descr=""/>
            <p:cNvPicPr/>
            <p:nvPr/>
          </p:nvPicPr>
          <p:blipFill>
            <a:blip r:embed="rId9"/>
            <a:stretch/>
          </p:blipFill>
          <p:spPr>
            <a:xfrm>
              <a:off x="1600200" y="5715000"/>
              <a:ext cx="833400" cy="847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33" name=""/>
            <p:cNvGrpSpPr/>
            <p:nvPr/>
          </p:nvGrpSpPr>
          <p:grpSpPr>
            <a:xfrm>
              <a:off x="2819520" y="2819520"/>
              <a:ext cx="833400" cy="1838160"/>
              <a:chOff x="2819520" y="2819520"/>
              <a:chExt cx="833400" cy="1838160"/>
            </a:xfrm>
          </p:grpSpPr>
          <p:pic>
            <p:nvPicPr>
              <p:cNvPr id="234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819520" y="2819520"/>
                <a:ext cx="833400" cy="847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5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819520" y="3810240"/>
                <a:ext cx="833400" cy="8474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Arial"/>
              </a:rPr>
              <a:t>Comparing Money &amp; Percents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09120" y="914400"/>
            <a:ext cx="8001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$ .10 is 1/10 of a dollar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10% also means 1/10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419720" y="3505320"/>
            <a:ext cx="757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971800"/>
            <a:ext cx="1523880" cy="99072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$1.0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914400" y="2819520"/>
            <a:ext cx="3124080" cy="3657600"/>
            <a:chOff x="914400" y="2819520"/>
            <a:chExt cx="3124080" cy="3657600"/>
          </a:xfrm>
        </p:grpSpPr>
        <p:sp>
          <p:nvSpPr>
            <p:cNvPr id="241" name=""/>
            <p:cNvSpPr/>
            <p:nvPr/>
          </p:nvSpPr>
          <p:spPr>
            <a:xfrm>
              <a:off x="914400" y="2819520"/>
              <a:ext cx="533520" cy="68580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¢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914400" y="3809880"/>
              <a:ext cx="533520" cy="68580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¢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990720" y="4724280"/>
              <a:ext cx="533160" cy="68580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¢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066680" y="5791320"/>
              <a:ext cx="533520" cy="68580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¢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209680" y="2819520"/>
              <a:ext cx="533520" cy="68580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¢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209680" y="3809880"/>
              <a:ext cx="533520" cy="68580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¢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209680" y="4800600"/>
              <a:ext cx="533520" cy="68580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¢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209680" y="5791320"/>
              <a:ext cx="533520" cy="68580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¢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505320" y="2819520"/>
              <a:ext cx="533160" cy="68580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¢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505320" y="3809880"/>
              <a:ext cx="533160" cy="76212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¢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3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3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3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3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Arial"/>
              </a:rPr>
              <a:t>Comparing Money &amp; Percents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10% means 1/1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10% of 10 ice creams is 1 ice cream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249960" y="3200400"/>
            <a:ext cx="753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120" y="3352680"/>
            <a:ext cx="2361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10% of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3200400" y="2895480"/>
            <a:ext cx="2624040" cy="2108160"/>
            <a:chOff x="3200400" y="2895480"/>
            <a:chExt cx="2624040" cy="2108160"/>
          </a:xfrm>
        </p:grpSpPr>
        <p:graphicFrame>
          <p:nvGraphicFramePr>
            <p:cNvPr id="256" name=""/>
            <p:cNvGraphicFramePr/>
            <p:nvPr/>
          </p:nvGraphicFramePr>
          <p:xfrm>
            <a:off x="3200400" y="2895480"/>
            <a:ext cx="490680" cy="889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5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00400" y="2895480"/>
                      <a:ext cx="490680" cy="889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58" name=""/>
            <p:cNvGraphicFramePr/>
            <p:nvPr/>
          </p:nvGraphicFramePr>
          <p:xfrm>
            <a:off x="3733920" y="2895480"/>
            <a:ext cx="490320" cy="889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5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733920" y="2895480"/>
                      <a:ext cx="490320" cy="889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60" name=""/>
            <p:cNvGraphicFramePr/>
            <p:nvPr/>
          </p:nvGraphicFramePr>
          <p:xfrm>
            <a:off x="4267080" y="2895480"/>
            <a:ext cx="490680" cy="8892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61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267080" y="2895480"/>
                      <a:ext cx="490680" cy="889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62" name=""/>
            <p:cNvGraphicFramePr/>
            <p:nvPr/>
          </p:nvGraphicFramePr>
          <p:xfrm>
            <a:off x="4800600" y="2895480"/>
            <a:ext cx="490680" cy="8892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63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800600" y="2895480"/>
                      <a:ext cx="490680" cy="889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64" name=""/>
            <p:cNvGraphicFramePr/>
            <p:nvPr/>
          </p:nvGraphicFramePr>
          <p:xfrm>
            <a:off x="5334120" y="2895480"/>
            <a:ext cx="490320" cy="8892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65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334120" y="2895480"/>
                      <a:ext cx="490320" cy="889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66" name=""/>
            <p:cNvGraphicFramePr/>
            <p:nvPr/>
          </p:nvGraphicFramePr>
          <p:xfrm>
            <a:off x="3200400" y="4114800"/>
            <a:ext cx="490680" cy="8888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267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200400" y="4114800"/>
                      <a:ext cx="490680" cy="888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68" name=""/>
            <p:cNvGraphicFramePr/>
            <p:nvPr/>
          </p:nvGraphicFramePr>
          <p:xfrm>
            <a:off x="3733920" y="4114800"/>
            <a:ext cx="490320" cy="88884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269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3733920" y="4114800"/>
                      <a:ext cx="490320" cy="888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70" name=""/>
            <p:cNvGraphicFramePr/>
            <p:nvPr/>
          </p:nvGraphicFramePr>
          <p:xfrm>
            <a:off x="4267080" y="4114800"/>
            <a:ext cx="490680" cy="88884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271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267080" y="4114800"/>
                      <a:ext cx="490680" cy="888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72" name=""/>
            <p:cNvGraphicFramePr/>
            <p:nvPr/>
          </p:nvGraphicFramePr>
          <p:xfrm>
            <a:off x="4800600" y="4114800"/>
            <a:ext cx="490680" cy="888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273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4800600" y="4114800"/>
                      <a:ext cx="490680" cy="888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74" name=""/>
            <p:cNvGraphicFramePr/>
            <p:nvPr/>
          </p:nvGraphicFramePr>
          <p:xfrm>
            <a:off x="5334120" y="4114800"/>
            <a:ext cx="490320" cy="88884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275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5334120" y="4114800"/>
                      <a:ext cx="490320" cy="888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276" name=""/>
          <p:cNvGraphicFramePr/>
          <p:nvPr/>
        </p:nvGraphicFramePr>
        <p:xfrm>
          <a:off x="7467480" y="3352680"/>
          <a:ext cx="490680" cy="8892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7467480" y="3352680"/>
                    <a:ext cx="490680" cy="88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3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3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3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3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Arial"/>
              </a:rPr>
              <a:t>Comparing Money &amp; Percents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04920" y="2971800"/>
            <a:ext cx="1981080" cy="24382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10%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514600" y="2971800"/>
            <a:ext cx="1981080" cy="24382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.10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4724280" y="2971800"/>
            <a:ext cx="1981440" cy="2476440"/>
            <a:chOff x="4724280" y="2971800"/>
            <a:chExt cx="1981440" cy="2476440"/>
          </a:xfrm>
        </p:grpSpPr>
        <p:sp>
          <p:nvSpPr>
            <p:cNvPr id="282" name=""/>
            <p:cNvSpPr/>
            <p:nvPr/>
          </p:nvSpPr>
          <p:spPr>
            <a:xfrm>
              <a:off x="4724280" y="2971800"/>
              <a:ext cx="1981440" cy="24764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6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000000"/>
                  </a:solidFill>
                  <a:latin typeface="Times New Roman"/>
                </a:rPr>
                <a:t>100</a:t>
              </a:r>
              <a:endParaRPr b="0" lang="en-US" sz="6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105520" y="4191120"/>
              <a:ext cx="12189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6934320" y="2971800"/>
            <a:ext cx="1981080" cy="3088800"/>
            <a:chOff x="6934320" y="2971800"/>
            <a:chExt cx="1981080" cy="3088800"/>
          </a:xfrm>
        </p:grpSpPr>
        <p:sp>
          <p:nvSpPr>
            <p:cNvPr id="285" name=""/>
            <p:cNvSpPr/>
            <p:nvPr/>
          </p:nvSpPr>
          <p:spPr>
            <a:xfrm>
              <a:off x="6934320" y="2971800"/>
              <a:ext cx="1981080" cy="24382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393320" y="3352680"/>
              <a:ext cx="1018800" cy="270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6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6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467480" y="4191120"/>
              <a:ext cx="9144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8" name=""/>
          <p:cNvSpPr/>
          <p:nvPr/>
        </p:nvSpPr>
        <p:spPr>
          <a:xfrm>
            <a:off x="2057400" y="3809880"/>
            <a:ext cx="762120" cy="7621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191120" y="3733920"/>
            <a:ext cx="761760" cy="7617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400800" y="3733920"/>
            <a:ext cx="762120" cy="7617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590920" y="2209680"/>
            <a:ext cx="1904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ecima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725720" y="2209680"/>
            <a:ext cx="1875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rac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705720" y="1828800"/>
            <a:ext cx="2438280" cy="16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rac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implifie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80880" y="2209680"/>
            <a:ext cx="1708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ercen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1523880" y="1371600"/>
            <a:ext cx="6096240" cy="533520"/>
          </a:xfrm>
          <a:prstGeom prst="rect">
            <a:avLst/>
          </a:prstGeom>
          <a:solidFill>
            <a:srgbClr val="99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4560" y="-7668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Arial"/>
              </a:rPr>
              <a:t>10 % Means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0" y="53352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10 parts out of 100 or 10 hundredths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1523880" y="1371600"/>
          <a:ext cx="6096240" cy="5175000"/>
        </p:xfrm>
        <a:graphic>
          <a:graphicData uri="http://schemas.openxmlformats.org/drawingml/2006/table">
            <a:tbl>
              <a:tblPr/>
              <a:tblGrid>
                <a:gridCol w="609840"/>
                <a:gridCol w="609480"/>
                <a:gridCol w="609480"/>
                <a:gridCol w="609840"/>
                <a:gridCol w="609480"/>
                <a:gridCol w="609480"/>
                <a:gridCol w="609840"/>
                <a:gridCol w="609480"/>
                <a:gridCol w="609480"/>
                <a:gridCol w="6098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3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3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redit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218960" y="16765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SzPct val="80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llustrations from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orel Gallery by Corel Corp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roderbund ClipArt T/Maker Co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ipart from “Microsoft Clip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Gallery” located on the Internet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t </a:t>
            </a:r>
            <a:r>
              <a:rPr b="0" lang="en-US" sz="4000" spc="-1" strike="noStrike" u="sng">
                <a:solidFill>
                  <a:srgbClr val="ff0033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en-US" sz="4000" spc="-1" strike="noStrike" u="sng">
                <a:solidFill>
                  <a:srgbClr val="ff0033"/>
                </a:solidFill>
                <a:uFillTx/>
                <a:latin typeface="Times New Roman"/>
                <a:hlinkClick r:id="rId2"/>
              </a:rPr>
              <a:t>cgl.microsoft.com/</a:t>
            </a:r>
            <a:r>
              <a:rPr b="0" lang="en-US" sz="4000" spc="-1" strike="noStrike">
                <a:solidFill>
                  <a:srgbClr val="ff0033"/>
                </a:solidFill>
                <a:latin typeface="Times New Roman"/>
              </a:rPr>
              <a:t>clipgallerylive/default.asp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Arial"/>
              </a:rPr>
              <a:t>Definition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11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ercent can be defined as “of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ne hundred.”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14600" y="3886200"/>
            <a:ext cx="4114800" cy="16002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Impact"/>
              </a:rPr>
              <a:t>100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038480" y="3200400"/>
            <a:ext cx="1067040" cy="8380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f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3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3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Arial"/>
              </a:rPr>
              <a:t>Definition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2120" y="12189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“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ent” comes from the Lati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nd means 100.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143000" y="3048120"/>
          <a:ext cx="1933560" cy="311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3048120"/>
                    <a:ext cx="1933560" cy="31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3352680" y="2514600"/>
            <a:ext cx="5105520" cy="2971800"/>
          </a:xfrm>
          <a:prstGeom prst="wedgeRoundRectCallout">
            <a:avLst>
              <a:gd name="adj1" fmla="val -64800"/>
              <a:gd name="adj2" fmla="val 12555"/>
              <a:gd name="adj3" fmla="val 16667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581280" y="2590920"/>
            <a:ext cx="4800600" cy="27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y words have come from the root cent such as century, centimeter,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entipede, &amp; cent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Arial"/>
              </a:rPr>
              <a:t>Definition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0010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11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letter C in Roman Numeral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tands for 100 or “cent”.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990720" y="3352680"/>
          <a:ext cx="2009520" cy="304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352680"/>
                    <a:ext cx="2009520" cy="304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3809880" y="3581280"/>
            <a:ext cx="4343400" cy="1295640"/>
          </a:xfrm>
          <a:prstGeom prst="wedgeRoundRectCallout">
            <a:avLst>
              <a:gd name="adj1" fmla="val -79166"/>
              <a:gd name="adj2" fmla="val 31495"/>
              <a:gd name="adj3" fmla="val 16667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962520" y="3581280"/>
            <a:ext cx="423360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CC means thre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undred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3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3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3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Arial"/>
              </a:rPr>
              <a:t>Percent and Money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0010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We write our change from a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ollar in hundredths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962520" y="3276720"/>
            <a:ext cx="4190760" cy="2209680"/>
          </a:xfrm>
          <a:prstGeom prst="wedgeRoundRectCallout">
            <a:avLst>
              <a:gd name="adj1" fmla="val -71402"/>
              <a:gd name="adj2" fmla="val -6467"/>
              <a:gd name="adj3" fmla="val 16667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38480" y="3352680"/>
            <a:ext cx="4233960" cy="21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f you understan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ney, learning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cents is a breeze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14400" y="2895480"/>
            <a:ext cx="232884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3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3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343400" y="3200400"/>
            <a:ext cx="3048120" cy="3048120"/>
          </a:xfrm>
          <a:prstGeom prst="rect">
            <a:avLst/>
          </a:prstGeom>
          <a:ln w="0">
            <a:noFill/>
          </a:ln>
        </p:spPr>
      </p:pic>
      <p:grpSp>
        <p:nvGrpSpPr>
          <p:cNvPr id="113" name=""/>
          <p:cNvGrpSpPr/>
          <p:nvPr/>
        </p:nvGrpSpPr>
        <p:grpSpPr>
          <a:xfrm>
            <a:off x="1143000" y="2895480"/>
            <a:ext cx="1600200" cy="3505320"/>
            <a:chOff x="1143000" y="2895480"/>
            <a:chExt cx="1600200" cy="3505320"/>
          </a:xfrm>
        </p:grpSpPr>
        <p:pic>
          <p:nvPicPr>
            <p:cNvPr id="114" name="" descr=""/>
            <p:cNvPicPr/>
            <p:nvPr/>
          </p:nvPicPr>
          <p:blipFill>
            <a:blip r:embed="rId2"/>
            <a:stretch/>
          </p:blipFill>
          <p:spPr>
            <a:xfrm>
              <a:off x="1143000" y="4800600"/>
              <a:ext cx="1600200" cy="160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" descr=""/>
            <p:cNvPicPr/>
            <p:nvPr/>
          </p:nvPicPr>
          <p:blipFill>
            <a:blip r:embed="rId3"/>
            <a:stretch/>
          </p:blipFill>
          <p:spPr>
            <a:xfrm>
              <a:off x="1143000" y="2895480"/>
              <a:ext cx="1600200" cy="1600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Arial"/>
              </a:rPr>
              <a:t>Comparing Money &amp; Percents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0010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$ .50 is ½ of a dollar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50% also means ½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14400" y="5486400"/>
            <a:ext cx="838080" cy="8380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¢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90720" y="3733920"/>
            <a:ext cx="838080" cy="8380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¢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125880" y="3809880"/>
            <a:ext cx="867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172200" y="3276720"/>
            <a:ext cx="1523880" cy="9903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$1.0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3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3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3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3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Arial"/>
              </a:rPr>
              <a:t>Comparing Money &amp; Percents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001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marL="188640" indent="-188640">
              <a:lnSpc>
                <a:spcPct val="80000"/>
              </a:lnSpc>
              <a:spcBef>
                <a:spcPts val="11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50% means ½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188640" indent="-188640">
              <a:lnSpc>
                <a:spcPct val="80000"/>
              </a:lnSpc>
              <a:spcBef>
                <a:spcPts val="11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50% of 6 stars is 3 sta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18864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021720" y="3733920"/>
            <a:ext cx="867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191120" y="3200400"/>
            <a:ext cx="1676160" cy="2666880"/>
            <a:chOff x="4191120" y="3200400"/>
            <a:chExt cx="1676160" cy="2666880"/>
          </a:xfrm>
        </p:grpSpPr>
        <p:sp>
          <p:nvSpPr>
            <p:cNvPr id="126" name=""/>
            <p:cNvSpPr/>
            <p:nvPr/>
          </p:nvSpPr>
          <p:spPr>
            <a:xfrm>
              <a:off x="4191120" y="3200400"/>
              <a:ext cx="609480" cy="60948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191120" y="4191120"/>
              <a:ext cx="609480" cy="60948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3200400"/>
              <a:ext cx="609840" cy="60948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4191120"/>
              <a:ext cx="609840" cy="60948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257800" y="5181480"/>
              <a:ext cx="609480" cy="60984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191120" y="5257800"/>
              <a:ext cx="609480" cy="60948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7086600" y="3200400"/>
            <a:ext cx="609480" cy="2666880"/>
            <a:chOff x="7086600" y="3200400"/>
            <a:chExt cx="609480" cy="2666880"/>
          </a:xfrm>
        </p:grpSpPr>
        <p:sp>
          <p:nvSpPr>
            <p:cNvPr id="133" name=""/>
            <p:cNvSpPr/>
            <p:nvPr/>
          </p:nvSpPr>
          <p:spPr>
            <a:xfrm>
              <a:off x="7086600" y="3200400"/>
              <a:ext cx="609480" cy="60948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086600" y="4191120"/>
              <a:ext cx="609480" cy="60948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086600" y="5257800"/>
              <a:ext cx="609480" cy="60948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762120" y="3657600"/>
            <a:ext cx="3146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50% of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3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3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3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Arial"/>
              </a:rPr>
              <a:t>Comparing Money &amp; Percents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971800"/>
            <a:ext cx="1981080" cy="24382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50%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514600" y="2971800"/>
            <a:ext cx="1981080" cy="24382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.50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4724280" y="2971800"/>
            <a:ext cx="1981440" cy="2476440"/>
            <a:chOff x="4724280" y="2971800"/>
            <a:chExt cx="1981440" cy="2476440"/>
          </a:xfrm>
        </p:grpSpPr>
        <p:sp>
          <p:nvSpPr>
            <p:cNvPr id="141" name=""/>
            <p:cNvSpPr/>
            <p:nvPr/>
          </p:nvSpPr>
          <p:spPr>
            <a:xfrm>
              <a:off x="4724280" y="2971800"/>
              <a:ext cx="1981440" cy="24764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000000"/>
                  </a:solidFill>
                  <a:latin typeface="Times New Roman"/>
                </a:rPr>
                <a:t>50</a:t>
              </a:r>
              <a:endParaRPr b="0" lang="en-US" sz="6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000000"/>
                  </a:solidFill>
                  <a:latin typeface="Times New Roman"/>
                </a:rPr>
                <a:t>100</a:t>
              </a:r>
              <a:endParaRPr b="0" lang="en-US" sz="6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105520" y="4191120"/>
              <a:ext cx="12189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6934320" y="2971800"/>
            <a:ext cx="1981080" cy="3088800"/>
            <a:chOff x="6934320" y="2971800"/>
            <a:chExt cx="1981080" cy="3088800"/>
          </a:xfrm>
        </p:grpSpPr>
        <p:sp>
          <p:nvSpPr>
            <p:cNvPr id="144" name=""/>
            <p:cNvSpPr/>
            <p:nvPr/>
          </p:nvSpPr>
          <p:spPr>
            <a:xfrm>
              <a:off x="6934320" y="2971800"/>
              <a:ext cx="1981080" cy="24382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545600" y="3352680"/>
              <a:ext cx="599760" cy="270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6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6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91520" y="4191120"/>
              <a:ext cx="9144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2057400" y="3809880"/>
            <a:ext cx="762120" cy="7621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191120" y="3733920"/>
            <a:ext cx="761760" cy="7617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400800" y="3733920"/>
            <a:ext cx="762120" cy="7617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590920" y="2209680"/>
            <a:ext cx="1904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ecima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725720" y="2209680"/>
            <a:ext cx="1875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rac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705720" y="1828800"/>
            <a:ext cx="2438280" cy="16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rac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implifie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2209680"/>
            <a:ext cx="1708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ercen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523880" y="1295280"/>
            <a:ext cx="6096240" cy="2590920"/>
          </a:xfrm>
          <a:prstGeom prst="rect">
            <a:avLst/>
          </a:prstGeom>
          <a:solidFill>
            <a:srgbClr val="99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560" y="-7668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Arial"/>
              </a:rPr>
              <a:t>50 % Means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53352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50 parts out of 100 or 50 hundredths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1523880" y="1320840"/>
          <a:ext cx="6096240" cy="5175000"/>
        </p:xfrm>
        <a:graphic>
          <a:graphicData uri="http://schemas.openxmlformats.org/drawingml/2006/table">
            <a:tbl>
              <a:tblPr/>
              <a:tblGrid>
                <a:gridCol w="609840"/>
                <a:gridCol w="609480"/>
                <a:gridCol w="609480"/>
                <a:gridCol w="609840"/>
                <a:gridCol w="609480"/>
                <a:gridCol w="609480"/>
                <a:gridCol w="609840"/>
                <a:gridCol w="609480"/>
                <a:gridCol w="609480"/>
                <a:gridCol w="6098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3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3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07T13:39:32Z</dcterms:created>
  <dc:creator>Monica/Bob Yuskaitis</dc:creator>
  <dc:description/>
  <dc:language>en-US</dc:language>
  <cp:lastModifiedBy>admin</cp:lastModifiedBy>
  <dcterms:modified xsi:type="dcterms:W3CDTF">2007-12-11T00:18:58Z</dcterms:modified>
  <cp:revision>28</cp:revision>
  <dc:subject/>
  <dc:title>Percent</dc:title>
</cp:coreProperties>
</file>